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21960" y="744120"/>
            <a:ext cx="49626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DA1D473A-76D2-4A0F-9A63-79243BE2CDE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13120"/>
            <a:ext cx="543564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fld id="{D90FA39C-E829-4372-BB19-63D0147E34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EF8F5-7CD3-40DA-81DD-F46BF08BDC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09FC7-7BF1-4009-9541-DF2E8F6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8A2C-CCBD-4886-80AC-7F9769AA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1856F-B56B-486E-A0ED-7546370A3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95531-BEF3-4E07-9C9C-9F943F73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1AAD8-1170-4AB8-B353-DC577FB84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9C58B-B018-4BA8-985A-9B902A6E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D9CCE-D290-4745-A579-9A146C18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ED24-F843-43A5-90F0-FD78D8B5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26033-3C5B-4DA9-A41D-ACFF97FD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612BE0-046D-4697-A8C6-53C1C611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0F3C0-750B-48A4-9F50-9B1D97BA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81B5D-1F5A-4B3D-B406-251E13F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12464-2F35-40DC-B2EB-17006B01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C93E1-F81D-4428-A617-AD8DA1D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532E4A-7AEE-4AF8-A009-C3A265C6C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D7B96-6ED7-47BA-BAC2-F246EB47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C95AA1-3EC7-4DD2-BA92-7076EC86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4EF163-26CE-4E0A-B2B0-BB2ED61F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DD4F11-C4AF-4F04-B7B5-82F6B888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8BD2E-D972-40EA-B653-22074606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CF79EC-953D-4013-8219-076643BF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C4268-9A97-4020-9A7B-70215CD1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9B577F-4EA7-4665-9109-C79ED4E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F885C-B888-4EB0-86BF-2350FFD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A350C-8181-4796-AF16-514C8A33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58FA13-115A-46F6-B15D-3616AC50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D0365A-41F2-40F8-B589-626CD755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11E9C-9BA0-4CE9-8B61-673D0BC89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75CDE-048E-41E6-8142-474245D9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09A51-7159-4995-8F83-6A9693A1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FAC777-DF52-4518-9F87-E1F09AF4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92228-895E-439B-A97B-D909941F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FE970-DB78-498A-8013-AD3C243C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754FE-E59D-40B1-BE91-39E1E4FC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CBF9F-D076-4DA9-9D18-690B5B5B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C9A6E-A3BF-4DD5-8DC3-FA87E173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8F765-A8DD-4622-A616-6F67FE03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12992-FF86-42F8-9AFF-2DBEF53A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072DA8-2D76-4544-A889-2139E34B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C8507F-3137-4405-9912-74C38360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733C0-C1E0-46A8-B370-893D5D58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F8A98-02CD-4C52-AD5C-CAAEA6B19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FD732A-A641-4A74-8C74-BBC65E2AD8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F68C8-4D67-409C-9AA4-8952492E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E6BAA3-53F4-457E-8692-8C04A77A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4CBF46-495F-4BC5-8B14-AD8F36C4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5DB278-1E16-44A0-ADD3-C4ACE9B9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0679EF-5216-4709-AD88-E9707FB8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EF941E-05E1-43AF-8676-DC1E01BF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B3D257-6A5A-4A16-A214-935D61E2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7C575-7AF0-4FD0-9D31-1FB1616D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CE1732-DB2C-4B15-BE79-B420D9D3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E97069-F43C-49E5-B567-450C9A7F9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D1A31E-FEFD-4299-B5EA-093B9524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CCBD-59EA-4BAE-83DB-A88C002D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E302A-8ED0-4123-81BF-94C5F7A213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7A0A3-438C-48E2-8AD9-D97F1837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EAF3-7568-499D-A6D4-34CE8D60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5BAD-E307-4D30-8A67-075EBC5D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13040" y="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AB32-9B32-4B67-9E8D-B3F0BDA30B49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451280" y="1080"/>
            <a:ext cx="1484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АЙД</a:t>
            </a:r>
            <a:fld id="{C6227222-DE18-48FD-9313-3EA017DB4514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Прямоугольник 5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6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8977320" y="-1440"/>
            <a:ext cx="2556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8875800" y="0"/>
            <a:ext cx="61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4577-14B2-416F-9B6B-42B1734D906D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7341840" y="1080"/>
            <a:ext cx="1593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АЙД</a:t>
            </a:r>
            <a:fld id="{EF2EE8BD-7DA8-458D-9CB3-B4B7818DBA7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7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8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9"/>
          <p:cNvSpPr/>
          <p:nvPr/>
        </p:nvSpPr>
        <p:spPr>
          <a:xfrm>
            <a:off x="8977320" y="-1440"/>
            <a:ext cx="2556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0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8875800" y="0"/>
            <a:ext cx="61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A99B-6EFE-4AA2-827E-7235802F1750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55CB-6FEC-4E8C-B06F-7F18D3BF7E9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5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9"/>
          <p:cNvSpPr/>
          <p:nvPr/>
        </p:nvSpPr>
        <p:spPr>
          <a:xfrm>
            <a:off x="8977320" y="-1440"/>
            <a:ext cx="2556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0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1"/>
          <p:cNvSpPr/>
          <p:nvPr/>
        </p:nvSpPr>
        <p:spPr>
          <a:xfrm>
            <a:off x="8875800" y="0"/>
            <a:ext cx="61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9"/>
          </p:nvPr>
        </p:nvSpPr>
        <p:spPr>
          <a:xfrm>
            <a:off x="6583320" y="612720"/>
            <a:ext cx="95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C2F3-0C44-4C88-9CF6-07354573D86F}" type="datetime"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7344-1F85-49C1-AE5D-F5C58B5C308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5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8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>
            <a:off x="8977320" y="-1440"/>
            <a:ext cx="2556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8875800" y="0"/>
            <a:ext cx="61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MF_emblema [Converted]"/>
          <p:cNvPicPr/>
          <p:nvPr/>
        </p:nvPicPr>
        <p:blipFill>
          <a:blip r:embed="rId2"/>
          <a:stretch/>
        </p:blipFill>
        <p:spPr>
          <a:xfrm>
            <a:off x="154080" y="0"/>
            <a:ext cx="387360" cy="439560"/>
          </a:xfrm>
          <a:prstGeom prst="rect">
            <a:avLst/>
          </a:prstGeom>
          <a:ln w="0">
            <a:noFill/>
          </a:ln>
        </p:spPr>
      </p:pic>
      <p:sp>
        <p:nvSpPr>
          <p:cNvPr id="192" name="Прямоугольник 13"/>
          <p:cNvSpPr/>
          <p:nvPr/>
        </p:nvSpPr>
        <p:spPr>
          <a:xfrm>
            <a:off x="541440" y="0"/>
            <a:ext cx="463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bdbe9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4"/>
          <p:cNvSpPr/>
          <p:nvPr/>
        </p:nvSpPr>
        <p:spPr>
          <a:xfrm>
            <a:off x="965880" y="-2052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bdbe9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77240" y="-61920"/>
            <a:ext cx="37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2"/>
          </p:nvPr>
        </p:nvSpPr>
        <p:spPr>
          <a:xfrm>
            <a:off x="6413040" y="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6134-B6E3-4BAF-AD86-DFD3D3B9668F}" type="datetime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3"/>
          </p:nvPr>
        </p:nvSpPr>
        <p:spPr>
          <a:xfrm>
            <a:off x="7451280" y="1080"/>
            <a:ext cx="1484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ЛАЙД</a:t>
            </a:r>
            <a:fld id="{89C4D3A1-BCB7-49A5-955D-4A60EC2757AE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818640" y="2305080"/>
            <a:ext cx="7610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программа энергосбережения и повышения энергетической эффективности на период до 2020 го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2590920" y="5295960"/>
            <a:ext cx="39052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9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Воронин Филипп Игор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3"/>
          <p:cNvGraphicFramePr/>
          <p:nvPr/>
        </p:nvGraphicFramePr>
        <p:xfrm>
          <a:off x="314280" y="2209680"/>
          <a:ext cx="833436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2209680"/>
                    <a:ext cx="8334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4"/>
          <p:cNvSpPr/>
          <p:nvPr/>
        </p:nvSpPr>
        <p:spPr>
          <a:xfrm>
            <a:off x="2696400" y="29559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6487200" y="18129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53160" y="1984320"/>
            <a:ext cx="104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лрд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220320" y="390600"/>
            <a:ext cx="87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 средств федерального бюдже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юджетов субъектов по этап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7600" y="456840"/>
            <a:ext cx="89060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</a:rPr>
              <a:t>Механизмы государственной поддержки энергосбережения и повышения энергоэффективности</a:t>
            </a:r>
            <a:r>
              <a:rPr b="0" lang="ru-RU" sz="3100" spc="-1" strike="noStrike">
                <a:solidFill>
                  <a:srgbClr val="424456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3840" y="2373480"/>
            <a:ext cx="9020160" cy="42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финансирование расходных обязательст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убъектов Российской Федерации, муниципальных образов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едоставление государственных гарант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кредитам и (или) займа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 создания и обеспечения работы государственной информационной систем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области энергосбережения и повышения эффективности использования эн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офинансирование обуче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лиц, ответственных за повышение энергетической эффективности (исполнительная власть, бюджетные и коммерческие организации, население);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 мероприятий направленных на формирование бережливой модели поведения населения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инансирование методического и нормативного обеспечения энергетической эффективност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научно-исследовательские работ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79360" y="1717200"/>
            <a:ext cx="886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рамках Программы государственная поддержка осуществляется по следующим базовым направлениям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380880" y="1380960"/>
          <a:ext cx="831852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80960"/>
                    <a:ext cx="831852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Rectangle 3"/>
          <p:cNvSpPr/>
          <p:nvPr/>
        </p:nvSpPr>
        <p:spPr>
          <a:xfrm>
            <a:off x="152280" y="3430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24456"/>
                </a:solidFill>
                <a:latin typeface="Times New Roman"/>
              </a:rPr>
              <a:t>Реализация мероприятий с использованием средств федерального бюджета предусматривается по следующим направлениям (млрд. рублей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399960"/>
            <a:ext cx="86392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Условия предоставления субсидий из федерального бюджета</a:t>
            </a:r>
            <a:r>
              <a:rPr b="0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360" y="1611000"/>
            <a:ext cx="82393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запроса на софинансирование расходных обязательств субъекта Российской Федерации в области энергосбережения и повышения энергетической эффектив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программы энергосбережения и повышения энергоэффективности субъекта Российской Федерации, утвержденной уполномоченным органом вл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организационно-финансового плана реализации программы энергосбережения и повышения энергоэффективности субъекта Российской Федерации на год, по которому запрашиваются субсидии из федерального бюдж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муниципальных программ энергосбережения и повышения энергоэффективност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тветствие программы энергосбережения и повышения энергоэффективности субъекта Российской Федерации требованиям к таким программам, сформулированным в статье 14 Федерального закона от 23.11.2009 №261-ФЗ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ументальное подтвержденное решение уполномоченного органа власти субъекта Российской Федерации о выделении средств бюджета субъекта Российской Федерации на реализацию каждого из инвестиционных проектов, по которым запрошено софинансирование из федерального бюдже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ичие подписанных инвестиционных соглашений о мобилизации средств из внебюджетных источников на реализацию региональной программ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учение высокого рейтинга по критериям, отражающим эффективность региональных программ в области энергосбережения и повышения энергетической эффектив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5360" y="46656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</a:rPr>
              <a:t>Ограничения (условия) по предоставлению субсидий из федерального бюджета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19040" y="171576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я финансирования проекта из федерального бюджета от стоимости каждого инвестиционного проекта не может превышать доли финансирования этого проекта из бюджета субъекта Российской Федерации и не может превышать 25% от стоимости инвестиционного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ъем средств, предоставляемых из федерального бюджета на софинансирование каждого инвестиционного проекта, не может быть меньше 50 млн.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уммарный объем средств из федерального бюджета, получаемых каждым субъектом Российской Федерации на поддержку реализации конкретных инвестиционных проектов в составе региональных программ в области энергосбережения и повышения энергетической эффективности, в каждом году не может превыш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30% объёма финансовых средств, выделенных в этом году из бюджета данного субъекта Российской Федерации на реализацию мероприятий программы в области энергосбережения и повышения энергетической эффектив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или 500 млн. 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23960" y="2473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Times New Roman"/>
              </a:rPr>
              <a:t>Спасибо за внимание!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66560" y="244008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1 октября 2010 г. правительство РФ одобрило (в целом утвердило) представленную Минэнерго государственную программу энергосбережения и повышения энергетической эффективности до 2020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9680" y="390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imes New Roman"/>
              </a:rPr>
              <a:t>Основания для разработки программы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61440" y="1230120"/>
            <a:ext cx="8191800" cy="54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едеральный закон от 23 ноября 2009 г. № 261-ФЗ «Об энергосбережении и о повышении энергетической эффективности и о внесении изменений в отдельные законодательные акты Российской Федера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каз Президента Российской Федерации от 4 июня 2008 г. № 889 «О некоторых мерах по повышению энергетической и экологической эффективности российской эконом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учение Правительства Российской Федерации от 29 июля 2009 г. № ВП-П9-4323 в части реализации пункта 1в перечня поручений Президента Российской Федерации от 15 июля 2009 г. № Пр-1802Г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440" y="437760"/>
            <a:ext cx="8734320" cy="6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imes New Roman"/>
              </a:rPr>
              <a:t>Основные целевые индикаторы программы</a:t>
            </a:r>
            <a:endParaRPr b="0" lang="en-US" sz="36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5920" y="1163520"/>
            <a:ext cx="824868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за счёт реализации мероприятий Программы снижения энергоёмкости ВВП не менее чем на 7,4% на первом этапе (в  2015 году) и на 13,5% на втором этапе (в 2020 год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еспечение за счёт реализации мероприятий Программы годовой экономии первичной энергии в объёме не менее 85 млн. тонн условного топлива (далее – т у.т.) на первом этапе в 2015 году и 170-180 млн. т у.т. на втором этапе в 2020 год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419040"/>
            <a:ext cx="82296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imes New Roman"/>
              </a:rPr>
              <a:t>Прогноз конечных результатов программы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830592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годовую экономию на приобретении всеми потребителями энергоресурс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2015 году – 815 млрд. руб., в 2020 году – 1728 млрд. руб. (в текущих ценах) и суммарную экономию затрат на энергию всеми потребителями энергоресурсов в 2011–2015 годах – 2439 млрд. руб. и в 2011–2020 годах – 9255 млрд. руб. (в текущих ценах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уммарную экономию средств бюджетов всех уровней на приобретение энергоресурсов для бюджетных учрежден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равную в 2011-2015 годах –  175 млрд. руб. и в 2011-2020 годах – 530 млрд.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суммарную экономию средств бюджетов всех уровней на субсидирование приобретения энергоресурсов для насе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равную в 2011-2015 годах – 82 млрд. руб. и в 2011-2020 годах – 260 млрд. 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поступления дополнительных налогов на прибыл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равные к 2015 году – 163 млрд. руб. и к 2020 году – 346 млрд. руб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экономический потенциал увеличения доходов от экспорта нефти, нефтепродуктов и природного газ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в 2011-2015 годах – порядка 900 млрд. руб., а в 2011-2020 годах – 2700 млрд. 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74600" y="1087920"/>
            <a:ext cx="796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еализация мероприятий и проектов по энергосбережению и повышению энергетической эффективности в рамках Программы позволит обеспечить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19040" y="7333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imes New Roman"/>
              </a:rPr>
              <a:t>Реализация программы разбита на этапы: </a:t>
            </a:r>
            <a:endParaRPr b="0" lang="en-US" sz="28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этап - 2011-2015 гг. - переход на энергоэффективный путь развития эконом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этап - 2016-2020 гг. - развитие экономики по энергоэффективному пут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позднее конца 2014 года параметры реализации Программы для второго этапа должны быть уточнены на основе результатов текущего выполнения Программ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23440" y="380880"/>
            <a:ext cx="8286840" cy="14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imes New Roman"/>
              </a:rPr>
              <a:t>С учётом специфики отдельных секторов российской экономики мероприятия программы разделены на 9 подпрограмм, объединяющих группы однотипных программных мероприятий:</a:t>
            </a:r>
            <a:endParaRPr b="0" lang="en-US" sz="24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200" y="1887480"/>
            <a:ext cx="84013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электроэнерге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теплоснабжении и системах коммунальной инфраструктур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промышленност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сельском хозяй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на транспор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организациях бюджетной сфер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повышение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жилищном сектор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стимулирование повышения энергетической эффективност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в субъектах Российской Федера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методическое, информационное и кадровое обеспечение мероприяти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о энергосбережению и повышению энергетической эффекти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9680" y="514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456"/>
                </a:solidFill>
                <a:latin typeface="Times New Roman"/>
              </a:rPr>
              <a:t>Управление программой</a:t>
            </a:r>
            <a:endParaRPr b="0" lang="en-US" sz="3200" spc="-1" strike="noStrike">
              <a:solidFill>
                <a:srgbClr val="424456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162000" y="1581120"/>
            <a:ext cx="8732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Object 3"/>
          <p:cNvGraphicFramePr/>
          <p:nvPr/>
        </p:nvGraphicFramePr>
        <p:xfrm>
          <a:off x="847800" y="1838160"/>
          <a:ext cx="7524720" cy="378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7800" y="1838160"/>
                    <a:ext cx="752472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4"/>
          <p:cNvSpPr/>
          <p:nvPr/>
        </p:nvSpPr>
        <p:spPr>
          <a:xfrm>
            <a:off x="2034360" y="5829480"/>
            <a:ext cx="527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Общий объем финансирования -  9 трлн. 532 млрд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519480" y="647640"/>
            <a:ext cx="83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ъемы бюджетных ассигновани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aio</dc:creator>
  <dc:description/>
  <dc:language>en-US</dc:language>
  <cp:lastModifiedBy>HP</cp:lastModifiedBy>
  <dcterms:modified xsi:type="dcterms:W3CDTF">2010-11-18T09:06:33Z</dcterms:modified>
  <cp:revision>2045</cp:revision>
  <dc:subject/>
  <dc:title>Россия-2020: Концепция обеспечения экономического лидерства</dc:title>
</cp:coreProperties>
</file>